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2E4-42A1-4A8D-8494-492F4A38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326-49BB-490A-BAD3-10074DE1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B22-28AC-44B5-93B1-2F7745E8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C81-8CC4-49E3-95CF-4D34AB4D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742-3599-43BB-BD8F-A01A6E23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C70-4E40-41CE-A0D3-D832515D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7E2-92CE-4360-859B-EB431ADD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678-AD7F-4E96-A518-22ABBC0B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E48-ACED-4AAA-8843-B32E4639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B48-E2FE-41EC-AB3D-988A2932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371-0451-432A-98E6-425FA272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519-03B5-4BD8-8F84-8D0A0A9C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2390-63A9-4292-8C16-144E2CDE6DC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Ver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2205000"/>
            <a:ext cx="289548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Je rend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u rend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 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us rend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ous rend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s rend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205000"/>
            <a:ext cx="289584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Je fini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u fini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 fini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us fini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ous fini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ss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s fini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s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05000"/>
            <a:ext cx="289548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Je march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u march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 march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us march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ous march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s march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1676520"/>
            <a:ext cx="28954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erbes en </a:t>
            </a:r>
            <a:r>
              <a:rPr b="0" lang="fr-CA" sz="2800" spc="-1" strike="noStrike">
                <a:solidFill>
                  <a:srgbClr val="0000d4"/>
                </a:solidFill>
                <a:latin typeface="Arial"/>
              </a:rPr>
              <a:t>-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1676520"/>
            <a:ext cx="28958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erbes en </a:t>
            </a:r>
            <a:r>
              <a:rPr b="0" lang="fr-CA" sz="2800" spc="-1" strike="noStrike">
                <a:solidFill>
                  <a:srgbClr val="0000d4"/>
                </a:solidFill>
                <a:latin typeface="Arial"/>
              </a:rPr>
              <a:t>–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676520"/>
            <a:ext cx="28954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erbes en </a:t>
            </a:r>
            <a:r>
              <a:rPr b="0" lang="fr-CA" sz="2800" spc="-1" strike="noStrike">
                <a:solidFill>
                  <a:srgbClr val="0000d4"/>
                </a:solidFill>
                <a:latin typeface="Arial"/>
              </a:rPr>
              <a:t>–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676520"/>
            <a:ext cx="8686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0500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851360"/>
            <a:ext cx="8686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76520"/>
            <a:ext cx="0" cy="3174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676520"/>
            <a:ext cx="0" cy="317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1676520"/>
            <a:ext cx="0" cy="317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15400" y="1676520"/>
            <a:ext cx="0" cy="3174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1:22:32Z</dcterms:created>
  <dc:creator>menb</dc:creator>
  <dc:description/>
  <dc:language>en-US</dc:language>
  <cp:lastModifiedBy>menb</cp:lastModifiedBy>
  <dcterms:modified xsi:type="dcterms:W3CDTF">2008-05-08T11:23:02Z</dcterms:modified>
  <cp:revision>1</cp:revision>
  <dc:subject/>
  <dc:title>Verbes</dc:title>
</cp:coreProperties>
</file>